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7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2CD-0E45-4326-BB61-21951D41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293-F066-4FEB-8C55-4B07684F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82E-F8E7-46D7-B702-A2EDDEDB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40E-09FD-4314-B09B-C8D1FBDE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CA4-45C4-44E1-A218-1727C884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7D1-B844-4E47-9E9A-BFDB2E03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4C2-1964-4D05-BD7B-4116FA8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D43-5665-42BC-A183-8143F71C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164-AE51-4CBF-AA73-792CB65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E3B-DFC1-4181-B220-A6BF913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9DE-B494-4D0B-B551-04082C3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7F2-A1C9-4E21-9753-8B035DD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1DB-ECE2-4147-8ECD-9E37A75A9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34920" y="1916280"/>
            <a:ext cx="9217080" cy="283716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Calibri"/>
              </a:rPr>
              <a:t>Роль информационно-аналитического комитета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Calibri"/>
              </a:rPr>
              <a:t>в реализации стратегии развития ОПСА на 2011-2015 гг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187280" y="-27000"/>
            <a:ext cx="7956720" cy="88596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Координационный сов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Омской профессиональной сестринской ассоци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900000" y="5581800"/>
            <a:ext cx="8209080" cy="10076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00"/>
                </a:solidFill>
                <a:latin typeface="Calibri"/>
              </a:rPr>
              <a:t>С.А. Кочетков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00"/>
                </a:solidFill>
                <a:latin typeface="Calibri"/>
              </a:rPr>
              <a:t>председатель комите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258920" y="-27000"/>
            <a:ext cx="7705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частие во всероссийской конферен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«Итоги международного проекта в области фтизиатрии», апрель 2011 г., Санкт-Петербу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523880" y="1268280"/>
            <a:ext cx="7008840" cy="525636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187280" y="47520"/>
            <a:ext cx="7885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Подготовка информации о Международном дне акушерки и Международном дне медицинской сестр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3743280" cy="507204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600360" cy="504036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187280" y="-46080"/>
            <a:ext cx="78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дготовка к проведению дистанционного заседания Правления 11 ноября 2011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D:\Фотоальбом\2011 г\07. Правление ОПСА 15.04.11\DSC03690.JPG"/>
          <p:cNvPicPr/>
          <p:nvPr/>
        </p:nvPicPr>
        <p:blipFill>
          <a:blip r:embed="rId1"/>
          <a:stretch/>
        </p:blipFill>
        <p:spPr>
          <a:xfrm>
            <a:off x="1476360" y="1268280"/>
            <a:ext cx="6912000" cy="518508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187280" y="-69840"/>
            <a:ext cx="7885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ные технологии в управлении сестринской дея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Users\User\Desktop\tvpc.png"/>
          <p:cNvPicPr/>
          <p:nvPr/>
        </p:nvPicPr>
        <p:blipFill>
          <a:blip r:embed="rId1"/>
          <a:stretch/>
        </p:blipFill>
        <p:spPr>
          <a:xfrm>
            <a:off x="4500720" y="3645000"/>
            <a:ext cx="4464000" cy="297324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500720" cy="293544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187280" y="115920"/>
            <a:ext cx="78854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alibri"/>
              </a:rPr>
              <a:t>Информационная деятельность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0" y="5516640"/>
            <a:ext cx="9072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Calibri"/>
              </a:rPr>
              <a:t>Публикации статей о достижениях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Calibri"/>
              </a:rPr>
              <a:t>в сестринском деле в СМ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D:\Рисунки\журналы\1.jpg"/>
          <p:cNvPicPr/>
          <p:nvPr/>
        </p:nvPicPr>
        <p:blipFill>
          <a:blip r:embed="rId1"/>
          <a:stretch/>
        </p:blipFill>
        <p:spPr>
          <a:xfrm>
            <a:off x="179280" y="2276640"/>
            <a:ext cx="2097360" cy="290988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" name="Picture 3" descr="D:\Рисунки\журналы\2.jpg"/>
          <p:cNvPicPr/>
          <p:nvPr/>
        </p:nvPicPr>
        <p:blipFill>
          <a:blip r:embed="rId2"/>
          <a:stretch/>
        </p:blipFill>
        <p:spPr>
          <a:xfrm>
            <a:off x="4643280" y="2205000"/>
            <a:ext cx="2097360" cy="290340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8" name="Picture 4" descr="D:\Рисунки\журналы\3.jpg"/>
          <p:cNvPicPr/>
          <p:nvPr/>
        </p:nvPicPr>
        <p:blipFill>
          <a:blip r:embed="rId3"/>
          <a:stretch/>
        </p:blipFill>
        <p:spPr>
          <a:xfrm>
            <a:off x="6875640" y="1557360"/>
            <a:ext cx="2097000" cy="287964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9" name="Picture 2" descr="D:\Рисунки\1\1.jpg"/>
          <p:cNvPicPr/>
          <p:nvPr/>
        </p:nvPicPr>
        <p:blipFill>
          <a:blip r:embed="rId4"/>
          <a:stretch/>
        </p:blipFill>
        <p:spPr>
          <a:xfrm>
            <a:off x="2382840" y="1484280"/>
            <a:ext cx="2160720" cy="307836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1116000" y="-27000"/>
            <a:ext cx="7956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Форум «Институты гражданского общества как ресурс развития регион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D:\Фотоальбом\2010 г\28. Регион. форум 16-17.12.10\DSC02984.JPG"/>
          <p:cNvPicPr/>
          <p:nvPr/>
        </p:nvPicPr>
        <p:blipFill>
          <a:blip r:embed="rId1"/>
          <a:stretch/>
        </p:blipFill>
        <p:spPr>
          <a:xfrm>
            <a:off x="117360" y="1762200"/>
            <a:ext cx="4525920" cy="3395520"/>
          </a:xfrm>
          <a:prstGeom prst="rect">
            <a:avLst/>
          </a:prstGeom>
          <a:ln w="1908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2" name="Picture 5" descr="D:\Фотоальбом\2010 г\28. Регион. форум 16-17.12.10\DSC03004.JPG"/>
          <p:cNvPicPr/>
          <p:nvPr/>
        </p:nvPicPr>
        <p:blipFill>
          <a:blip r:embed="rId2"/>
          <a:stretch/>
        </p:blipFill>
        <p:spPr>
          <a:xfrm>
            <a:off x="4427640" y="2762280"/>
            <a:ext cx="4537080" cy="3403440"/>
          </a:xfrm>
          <a:prstGeom prst="rect">
            <a:avLst/>
          </a:prstGeom>
          <a:ln w="1908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250920" y="1557360"/>
            <a:ext cx="86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«Кто владеет информацией, тот владеет мир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3635280" y="3808440"/>
            <a:ext cx="4681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0000"/>
                </a:solidFill>
                <a:latin typeface="Calibri"/>
              </a:rPr>
              <a:t>Натан Ротшильд, барон, крупный английский банкир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17520" y="2992320"/>
            <a:ext cx="3035160" cy="4121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31640" y="2708280"/>
            <a:ext cx="8317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cc0000"/>
                </a:solidFill>
                <a:latin typeface="Calibri"/>
              </a:rPr>
              <a:t>Благодарю за внимание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116000" y="0"/>
            <a:ext cx="7993080" cy="8254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оль информационно-аналитического комит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реализации стратегии развития ОПСА на 2011-201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1187280" y="-100080"/>
            <a:ext cx="7956720" cy="9320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Calibri"/>
              </a:rPr>
              <a:t>Задачи комитет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468360" y="1672200"/>
            <a:ext cx="86392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информационное обеспечение политики Ассоци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организация единого информационного пространства деятельности Ассоци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предоставление консультаций по вопросам всероссийского и международного сотрудничества в сфере здравоохранения, медицинского образования и науки согласно плану работы РАМС и ОПСА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Овал 5"/>
          <p:cNvGrpSpPr/>
          <p:nvPr/>
        </p:nvGrpSpPr>
        <p:grpSpPr>
          <a:xfrm>
            <a:off x="115920" y="1809720"/>
            <a:ext cx="407880" cy="397080"/>
            <a:chOff x="115920" y="1809720"/>
            <a:chExt cx="407880" cy="397080"/>
          </a:xfrm>
        </p:grpSpPr>
        <p:pic>
          <p:nvPicPr>
            <p:cNvPr id="47" name="Овал 5" descr=""/>
            <p:cNvPicPr/>
            <p:nvPr/>
          </p:nvPicPr>
          <p:blipFill>
            <a:blip r:embed="rId1"/>
            <a:stretch/>
          </p:blipFill>
          <p:spPr>
            <a:xfrm>
              <a:off x="115920" y="1809720"/>
              <a:ext cx="4078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22120" y="188748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Овал 6"/>
          <p:cNvGrpSpPr/>
          <p:nvPr/>
        </p:nvGrpSpPr>
        <p:grpSpPr>
          <a:xfrm>
            <a:off x="115920" y="3103560"/>
            <a:ext cx="407880" cy="401760"/>
            <a:chOff x="115920" y="3103560"/>
            <a:chExt cx="407880" cy="401760"/>
          </a:xfrm>
        </p:grpSpPr>
        <p:pic>
          <p:nvPicPr>
            <p:cNvPr id="50" name="Овал 6" descr=""/>
            <p:cNvPicPr/>
            <p:nvPr/>
          </p:nvPicPr>
          <p:blipFill>
            <a:blip r:embed="rId2"/>
            <a:stretch/>
          </p:blipFill>
          <p:spPr>
            <a:xfrm>
              <a:off x="115920" y="3103560"/>
              <a:ext cx="407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2120" y="31827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Овал 7"/>
          <p:cNvGrpSpPr/>
          <p:nvPr/>
        </p:nvGrpSpPr>
        <p:grpSpPr>
          <a:xfrm>
            <a:off x="115920" y="4400640"/>
            <a:ext cx="407880" cy="396720"/>
            <a:chOff x="115920" y="4400640"/>
            <a:chExt cx="407880" cy="396720"/>
          </a:xfrm>
        </p:grpSpPr>
        <p:pic>
          <p:nvPicPr>
            <p:cNvPr id="53" name="Овал 7" descr=""/>
            <p:cNvPicPr/>
            <p:nvPr/>
          </p:nvPicPr>
          <p:blipFill>
            <a:blip r:embed="rId3"/>
            <a:stretch/>
          </p:blipFill>
          <p:spPr>
            <a:xfrm>
              <a:off x="115920" y="4400640"/>
              <a:ext cx="4078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2120" y="447984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187280" y="-100080"/>
            <a:ext cx="7956720" cy="9320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Calibri"/>
              </a:rPr>
              <a:t>Задачи комитет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395280" y="1555200"/>
            <a:ext cx="874872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68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повышение эффективности информационного сопровождения деятельности ОПСА для целевых аудиторий – сестринского персонала, преподавателей образовательных медицинских учреждений, органов государственной власти, органов местного самоуправления, организаций и общественных объединен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участие в организации просветительских мероприятий по воспитанию у сестринского персонала, студентов образовательных медицинских учреждений и населения активной гражданской позиции, основанной на гуманизме и милосерд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Овал 3"/>
          <p:cNvGrpSpPr/>
          <p:nvPr/>
        </p:nvGrpSpPr>
        <p:grpSpPr>
          <a:xfrm>
            <a:off x="49320" y="1736640"/>
            <a:ext cx="401400" cy="397080"/>
            <a:chOff x="49320" y="1736640"/>
            <a:chExt cx="401400" cy="397080"/>
          </a:xfrm>
        </p:grpSpPr>
        <p:pic>
          <p:nvPicPr>
            <p:cNvPr id="58" name="Овал 3" descr=""/>
            <p:cNvPicPr/>
            <p:nvPr/>
          </p:nvPicPr>
          <p:blipFill>
            <a:blip r:embed="rId1"/>
            <a:stretch/>
          </p:blipFill>
          <p:spPr>
            <a:xfrm>
              <a:off x="49320" y="1736640"/>
              <a:ext cx="4014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9400" y="181440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Овал 4"/>
          <p:cNvGrpSpPr/>
          <p:nvPr/>
        </p:nvGrpSpPr>
        <p:grpSpPr>
          <a:xfrm>
            <a:off x="49320" y="4906800"/>
            <a:ext cx="401400" cy="397080"/>
            <a:chOff x="49320" y="4906800"/>
            <a:chExt cx="401400" cy="397080"/>
          </a:xfrm>
        </p:grpSpPr>
        <p:pic>
          <p:nvPicPr>
            <p:cNvPr id="61" name="Овал 4" descr=""/>
            <p:cNvPicPr/>
            <p:nvPr/>
          </p:nvPicPr>
          <p:blipFill>
            <a:blip r:embed="rId2"/>
            <a:stretch/>
          </p:blipFill>
          <p:spPr>
            <a:xfrm>
              <a:off x="49320" y="4906800"/>
              <a:ext cx="4014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49400" y="498312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187280" y="-100080"/>
            <a:ext cx="7956720" cy="9320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Calibri"/>
              </a:rPr>
              <a:t>Компетенции комитет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468360" y="1653120"/>
            <a:ext cx="84963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68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формирование единой имиджевой политики Ассоциации на территории Омской области, Российской Федерации и за рубежо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8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использование современных информационных технологий в деятельности Ассоци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8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создание и ведение реестра информационной базы данных членов Ассоциации и обеспечение доступности ее использования в установленном порядк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Овал 3"/>
          <p:cNvGrpSpPr/>
          <p:nvPr/>
        </p:nvGrpSpPr>
        <p:grpSpPr>
          <a:xfrm>
            <a:off x="49320" y="1809720"/>
            <a:ext cx="401400" cy="397080"/>
            <a:chOff x="49320" y="1809720"/>
            <a:chExt cx="401400" cy="397080"/>
          </a:xfrm>
        </p:grpSpPr>
        <p:pic>
          <p:nvPicPr>
            <p:cNvPr id="66" name="Овал 3" descr=""/>
            <p:cNvPicPr/>
            <p:nvPr/>
          </p:nvPicPr>
          <p:blipFill>
            <a:blip r:embed="rId1"/>
            <a:stretch/>
          </p:blipFill>
          <p:spPr>
            <a:xfrm>
              <a:off x="49320" y="1809720"/>
              <a:ext cx="4014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9400" y="188748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Овал 4"/>
          <p:cNvGrpSpPr/>
          <p:nvPr/>
        </p:nvGrpSpPr>
        <p:grpSpPr>
          <a:xfrm>
            <a:off x="49320" y="3535200"/>
            <a:ext cx="401400" cy="397080"/>
            <a:chOff x="49320" y="3535200"/>
            <a:chExt cx="401400" cy="397080"/>
          </a:xfrm>
        </p:grpSpPr>
        <p:pic>
          <p:nvPicPr>
            <p:cNvPr id="69" name="Овал 4" descr=""/>
            <p:cNvPicPr/>
            <p:nvPr/>
          </p:nvPicPr>
          <p:blipFill>
            <a:blip r:embed="rId2"/>
            <a:stretch/>
          </p:blipFill>
          <p:spPr>
            <a:xfrm>
              <a:off x="49320" y="3535200"/>
              <a:ext cx="4014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49400" y="361476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Овал 5"/>
          <p:cNvGrpSpPr/>
          <p:nvPr/>
        </p:nvGrpSpPr>
        <p:grpSpPr>
          <a:xfrm>
            <a:off x="49320" y="4834080"/>
            <a:ext cx="401400" cy="396720"/>
            <a:chOff x="49320" y="4834080"/>
            <a:chExt cx="401400" cy="396720"/>
          </a:xfrm>
        </p:grpSpPr>
        <p:pic>
          <p:nvPicPr>
            <p:cNvPr id="72" name="Овал 5" descr=""/>
            <p:cNvPicPr/>
            <p:nvPr/>
          </p:nvPicPr>
          <p:blipFill>
            <a:blip r:embed="rId3"/>
            <a:stretch/>
          </p:blipFill>
          <p:spPr>
            <a:xfrm>
              <a:off x="49320" y="4834080"/>
              <a:ext cx="4014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9400" y="4911840"/>
              <a:ext cx="204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187280" y="-100080"/>
            <a:ext cx="7956720" cy="9320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Calibri"/>
              </a:rPr>
              <a:t>Компетенции комитет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468360" y="1651680"/>
            <a:ext cx="8604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Calibri"/>
              </a:rPr>
              <a:t>информационная поддержка деятельности Ассоциации с использованием всех доступных информационных канал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Calibri"/>
              </a:rPr>
              <a:t>оказание информационной поддержки интернет-сайту Ассоци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Calibri"/>
              </a:rPr>
              <a:t>предоставление информации для публикации в СМ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Calibri"/>
              </a:rPr>
              <a:t>обобщение опыта и создание базы данных научно-исследовательской деятельности в области сестринского де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Овал 3"/>
          <p:cNvGrpSpPr/>
          <p:nvPr/>
        </p:nvGrpSpPr>
        <p:grpSpPr>
          <a:xfrm>
            <a:off x="49320" y="1809720"/>
            <a:ext cx="401400" cy="397080"/>
            <a:chOff x="49320" y="1809720"/>
            <a:chExt cx="401400" cy="397080"/>
          </a:xfrm>
        </p:grpSpPr>
        <p:pic>
          <p:nvPicPr>
            <p:cNvPr id="77" name="Овал 3" descr=""/>
            <p:cNvPicPr/>
            <p:nvPr/>
          </p:nvPicPr>
          <p:blipFill>
            <a:blip r:embed="rId1"/>
            <a:stretch/>
          </p:blipFill>
          <p:spPr>
            <a:xfrm>
              <a:off x="49320" y="1809720"/>
              <a:ext cx="4014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49400" y="188748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Овал 4"/>
          <p:cNvGrpSpPr/>
          <p:nvPr/>
        </p:nvGrpSpPr>
        <p:grpSpPr>
          <a:xfrm>
            <a:off x="49320" y="3395520"/>
            <a:ext cx="401400" cy="395280"/>
            <a:chOff x="49320" y="3395520"/>
            <a:chExt cx="401400" cy="395280"/>
          </a:xfrm>
        </p:grpSpPr>
        <p:pic>
          <p:nvPicPr>
            <p:cNvPr id="80" name="Овал 4" descr=""/>
            <p:cNvPicPr/>
            <p:nvPr/>
          </p:nvPicPr>
          <p:blipFill>
            <a:blip r:embed="rId2"/>
            <a:stretch/>
          </p:blipFill>
          <p:spPr>
            <a:xfrm>
              <a:off x="49320" y="3395520"/>
              <a:ext cx="4014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49400" y="347184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Овал 5"/>
          <p:cNvGrpSpPr/>
          <p:nvPr/>
        </p:nvGrpSpPr>
        <p:grpSpPr>
          <a:xfrm>
            <a:off x="49320" y="4614840"/>
            <a:ext cx="401400" cy="401760"/>
            <a:chOff x="49320" y="4614840"/>
            <a:chExt cx="401400" cy="401760"/>
          </a:xfrm>
        </p:grpSpPr>
        <p:pic>
          <p:nvPicPr>
            <p:cNvPr id="83" name="Овал 5" descr=""/>
            <p:cNvPicPr/>
            <p:nvPr/>
          </p:nvPicPr>
          <p:blipFill>
            <a:blip r:embed="rId3"/>
            <a:stretch/>
          </p:blipFill>
          <p:spPr>
            <a:xfrm>
              <a:off x="49320" y="4614840"/>
              <a:ext cx="4014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49400" y="4695840"/>
              <a:ext cx="204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Овал 6"/>
          <p:cNvGrpSpPr/>
          <p:nvPr/>
        </p:nvGrpSpPr>
        <p:grpSpPr>
          <a:xfrm>
            <a:off x="49320" y="5407200"/>
            <a:ext cx="401400" cy="396720"/>
            <a:chOff x="49320" y="5407200"/>
            <a:chExt cx="401400" cy="396720"/>
          </a:xfrm>
        </p:grpSpPr>
        <p:pic>
          <p:nvPicPr>
            <p:cNvPr id="86" name="Овал 6" descr=""/>
            <p:cNvPicPr/>
            <p:nvPr/>
          </p:nvPicPr>
          <p:blipFill>
            <a:blip r:embed="rId4"/>
            <a:stretch/>
          </p:blipFill>
          <p:spPr>
            <a:xfrm>
              <a:off x="49320" y="5407200"/>
              <a:ext cx="4014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49400" y="548784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187280" y="-100080"/>
            <a:ext cx="7956720" cy="9320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Calibri"/>
              </a:rPr>
              <a:t>Компетенции комитет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395280" y="1488960"/>
            <a:ext cx="874872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spcAft>
                <a:spcPts val="25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Calibri"/>
              </a:rPr>
              <a:t>оказание консультативной и методической помощи членам Ассоциациив информационно-аналитической сфер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Aft>
                <a:spcPts val="25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Calibri"/>
              </a:rPr>
              <a:t>обеспечение сотрудничества и информационного взаимодействия с органами государственной власти, информационно-аналитическим комитетом РАМС, региональными ассоциациями и международными организациями в сфере здравоохранения и медицинского образ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5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6600"/>
                </a:solidFill>
                <a:latin typeface="Calibri"/>
              </a:rPr>
              <a:t>участие в организации мероприятий, проводимых Ассоциаци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Овал 3"/>
          <p:cNvGrpSpPr/>
          <p:nvPr/>
        </p:nvGrpSpPr>
        <p:grpSpPr>
          <a:xfrm>
            <a:off x="49320" y="1590840"/>
            <a:ext cx="401400" cy="396720"/>
            <a:chOff x="49320" y="1590840"/>
            <a:chExt cx="401400" cy="396720"/>
          </a:xfrm>
        </p:grpSpPr>
        <p:pic>
          <p:nvPicPr>
            <p:cNvPr id="91" name="Овал 3" descr=""/>
            <p:cNvPicPr/>
            <p:nvPr/>
          </p:nvPicPr>
          <p:blipFill>
            <a:blip r:embed="rId1"/>
            <a:stretch/>
          </p:blipFill>
          <p:spPr>
            <a:xfrm>
              <a:off x="49320" y="1590840"/>
              <a:ext cx="4014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49400" y="167148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Овал 4"/>
          <p:cNvGrpSpPr/>
          <p:nvPr/>
        </p:nvGrpSpPr>
        <p:grpSpPr>
          <a:xfrm>
            <a:off x="49320" y="3176640"/>
            <a:ext cx="401400" cy="395280"/>
            <a:chOff x="49320" y="3176640"/>
            <a:chExt cx="401400" cy="395280"/>
          </a:xfrm>
        </p:grpSpPr>
        <p:pic>
          <p:nvPicPr>
            <p:cNvPr id="94" name="Овал 4" descr=""/>
            <p:cNvPicPr/>
            <p:nvPr/>
          </p:nvPicPr>
          <p:blipFill>
            <a:blip r:embed="rId2"/>
            <a:stretch/>
          </p:blipFill>
          <p:spPr>
            <a:xfrm>
              <a:off x="49320" y="3176640"/>
              <a:ext cx="4014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49400" y="325440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Овал 5"/>
          <p:cNvGrpSpPr/>
          <p:nvPr/>
        </p:nvGrpSpPr>
        <p:grpSpPr>
          <a:xfrm>
            <a:off x="49320" y="5986440"/>
            <a:ext cx="401400" cy="395280"/>
            <a:chOff x="49320" y="5986440"/>
            <a:chExt cx="401400" cy="395280"/>
          </a:xfrm>
        </p:grpSpPr>
        <p:pic>
          <p:nvPicPr>
            <p:cNvPr id="97" name="Овал 5" descr=""/>
            <p:cNvPicPr/>
            <p:nvPr/>
          </p:nvPicPr>
          <p:blipFill>
            <a:blip r:embed="rId3"/>
            <a:stretch/>
          </p:blipFill>
          <p:spPr>
            <a:xfrm>
              <a:off x="49320" y="5986440"/>
              <a:ext cx="4014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9400" y="606420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187280" y="-100080"/>
            <a:ext cx="7956720" cy="9320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Calibri"/>
              </a:rPr>
              <a:t>Состав комитет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Документы\Документы ОПСА\Комитеты\Информационно-аналитический\Фото информац.-аналит.комитета\GEDC117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403280" y="1125360"/>
            <a:ext cx="7272360" cy="5453280"/>
          </a:xfrm>
          <a:prstGeom prst="rect">
            <a:avLst/>
          </a:prstGeom>
          <a:ln w="1908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22"/>
          <p:cNvSpPr/>
          <p:nvPr/>
        </p:nvSpPr>
        <p:spPr>
          <a:xfrm>
            <a:off x="4859280" y="4221000"/>
            <a:ext cx="396072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23"/>
          <p:cNvSpPr/>
          <p:nvPr/>
        </p:nvSpPr>
        <p:spPr>
          <a:xfrm>
            <a:off x="4859280" y="5661000"/>
            <a:ext cx="3960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21"/>
          <p:cNvSpPr/>
          <p:nvPr/>
        </p:nvSpPr>
        <p:spPr>
          <a:xfrm>
            <a:off x="4859280" y="3068640"/>
            <a:ext cx="3960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4859280" y="1773360"/>
            <a:ext cx="3960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079640" y="-54000"/>
            <a:ext cx="8100720" cy="102564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Распределение кураци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среди членов комитета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4859280" y="574632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4082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В.С. Смирнова, ГБ № 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108000" y="1773360"/>
            <a:ext cx="395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Стрелка вниз 6"/>
          <p:cNvGrpSpPr/>
          <p:nvPr/>
        </p:nvGrpSpPr>
        <p:grpSpPr>
          <a:xfrm>
            <a:off x="4151160" y="1951200"/>
            <a:ext cx="689040" cy="468000"/>
            <a:chOff x="4151160" y="1951200"/>
            <a:chExt cx="689040" cy="468000"/>
          </a:xfrm>
        </p:grpSpPr>
        <p:pic>
          <p:nvPicPr>
            <p:cNvPr id="109" name="Стрелка вниз 6" descr=""/>
            <p:cNvPicPr/>
            <p:nvPr/>
          </p:nvPicPr>
          <p:blipFill>
            <a:blip r:embed="rId1"/>
            <a:stretch/>
          </p:blipFill>
          <p:spPr>
            <a:xfrm>
              <a:off x="4151160" y="1951200"/>
              <a:ext cx="68904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366080" y="1924200"/>
              <a:ext cx="1796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Прямоугольник 7"/>
          <p:cNvSpPr/>
          <p:nvPr/>
        </p:nvSpPr>
        <p:spPr>
          <a:xfrm>
            <a:off x="941760" y="1844640"/>
            <a:ext cx="2326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БУЗОО и ГУЗО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4877280" y="1844640"/>
            <a:ext cx="392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С.Н. Муромцева, ДГП № 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кругленный прямоугольник 9"/>
          <p:cNvSpPr/>
          <p:nvPr/>
        </p:nvSpPr>
        <p:spPr>
          <a:xfrm>
            <a:off x="108000" y="2997360"/>
            <a:ext cx="395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523440" y="3063960"/>
            <a:ext cx="317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МУЗ Омской област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11"/>
          <p:cNvSpPr/>
          <p:nvPr/>
        </p:nvSpPr>
        <p:spPr>
          <a:xfrm>
            <a:off x="4865040" y="3081240"/>
            <a:ext cx="277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С.А. Гетц, ГП № 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кругленный прямоугольник 12"/>
          <p:cNvSpPr/>
          <p:nvPr/>
        </p:nvSpPr>
        <p:spPr>
          <a:xfrm>
            <a:off x="108000" y="4159080"/>
            <a:ext cx="39592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1045440" y="4230720"/>
            <a:ext cx="2084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МУЗ г. Омск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14"/>
          <p:cNvSpPr/>
          <p:nvPr/>
        </p:nvSpPr>
        <p:spPr>
          <a:xfrm>
            <a:off x="4864680" y="4275000"/>
            <a:ext cx="286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Calibri"/>
              </a:rPr>
              <a:t>О.В. Кавун, ГП № 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15"/>
          <p:cNvSpPr/>
          <p:nvPr/>
        </p:nvSpPr>
        <p:spPr>
          <a:xfrm>
            <a:off x="108000" y="5373720"/>
            <a:ext cx="39592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16"/>
          <p:cNvSpPr/>
          <p:nvPr/>
        </p:nvSpPr>
        <p:spPr>
          <a:xfrm>
            <a:off x="34920" y="5278320"/>
            <a:ext cx="417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ведомственные, учреждения соц. службы, санаторно-курортн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Стрелка вниз 17"/>
          <p:cNvGrpSpPr/>
          <p:nvPr/>
        </p:nvGrpSpPr>
        <p:grpSpPr>
          <a:xfrm>
            <a:off x="4151160" y="3133800"/>
            <a:ext cx="689040" cy="468360"/>
            <a:chOff x="4151160" y="3133800"/>
            <a:chExt cx="689040" cy="468360"/>
          </a:xfrm>
        </p:grpSpPr>
        <p:pic>
          <p:nvPicPr>
            <p:cNvPr id="122" name="Стрелка вниз 17" descr=""/>
            <p:cNvPicPr/>
            <p:nvPr/>
          </p:nvPicPr>
          <p:blipFill>
            <a:blip r:embed="rId2"/>
            <a:stretch/>
          </p:blipFill>
          <p:spPr>
            <a:xfrm>
              <a:off x="4151160" y="3133800"/>
              <a:ext cx="6890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 rot="16200000">
              <a:off x="4366440" y="3105720"/>
              <a:ext cx="179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Стрелка вниз 18"/>
          <p:cNvGrpSpPr/>
          <p:nvPr/>
        </p:nvGrpSpPr>
        <p:grpSpPr>
          <a:xfrm>
            <a:off x="4151160" y="4340160"/>
            <a:ext cx="689040" cy="469800"/>
            <a:chOff x="4151160" y="4340160"/>
            <a:chExt cx="689040" cy="469800"/>
          </a:xfrm>
        </p:grpSpPr>
        <p:pic>
          <p:nvPicPr>
            <p:cNvPr id="125" name="Стрелка вниз 18" descr=""/>
            <p:cNvPicPr/>
            <p:nvPr/>
          </p:nvPicPr>
          <p:blipFill>
            <a:blip r:embed="rId3"/>
            <a:stretch/>
          </p:blipFill>
          <p:spPr>
            <a:xfrm>
              <a:off x="4151160" y="4340160"/>
              <a:ext cx="68904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 rot="16200000">
              <a:off x="4366440" y="4310640"/>
              <a:ext cx="179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Стрелка вниз 19"/>
          <p:cNvGrpSpPr/>
          <p:nvPr/>
        </p:nvGrpSpPr>
        <p:grpSpPr>
          <a:xfrm>
            <a:off x="4151160" y="5767560"/>
            <a:ext cx="689040" cy="468000"/>
            <a:chOff x="4151160" y="5767560"/>
            <a:chExt cx="689040" cy="468000"/>
          </a:xfrm>
        </p:grpSpPr>
        <p:pic>
          <p:nvPicPr>
            <p:cNvPr id="128" name="Стрелка вниз 19" descr=""/>
            <p:cNvPicPr/>
            <p:nvPr/>
          </p:nvPicPr>
          <p:blipFill>
            <a:blip r:embed="rId4"/>
            <a:stretch/>
          </p:blipFill>
          <p:spPr>
            <a:xfrm>
              <a:off x="4151160" y="5767560"/>
              <a:ext cx="68904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 rot="16200000">
              <a:off x="4366080" y="5740560"/>
              <a:ext cx="1796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Диаграмма 2" descr=""/>
          <p:cNvPicPr/>
          <p:nvPr/>
        </p:nvPicPr>
        <p:blipFill>
          <a:blip r:embed="rId1"/>
          <a:stretch/>
        </p:blipFill>
        <p:spPr>
          <a:xfrm>
            <a:off x="244440" y="1262160"/>
            <a:ext cx="8655120" cy="31082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1152360" y="44280"/>
            <a:ext cx="8028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Открытие страничек на сайте ОПС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2303640" y="4780080"/>
            <a:ext cx="66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Требования для подготов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транички учреждения здравоохран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на сайт ОПСА, стр. 56-5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D:\Рисунки\Печатные издания\111111.jpg"/>
          <p:cNvPicPr/>
          <p:nvPr/>
        </p:nvPicPr>
        <p:blipFill>
          <a:blip r:embed="rId2"/>
          <a:stretch/>
        </p:blipFill>
        <p:spPr>
          <a:xfrm>
            <a:off x="468360" y="4365720"/>
            <a:ext cx="1727280" cy="2297160"/>
          </a:xfrm>
          <a:prstGeom prst="rect">
            <a:avLst/>
          </a:prstGeom>
          <a:ln w="15840">
            <a:solidFill>
              <a:srgbClr val="c0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4:51:45Z</dcterms:created>
  <dc:creator>User</dc:creator>
  <dc:description/>
  <dc:language>en-US</dc:language>
  <cp:lastModifiedBy>ОПСА</cp:lastModifiedBy>
  <dcterms:modified xsi:type="dcterms:W3CDTF">2011-04-28T10:00:34Z</dcterms:modified>
  <cp:revision>73</cp:revision>
  <dc:subject/>
  <dc:title>Слайд 1</dc:title>
</cp:coreProperties>
</file>